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98D-3209-471A-B318-B9055371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A15-85A5-415B-928A-4348D397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CB4-A076-4403-9A79-3603F3EB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7CD-0591-4353-A310-84E489A2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893-0559-48D8-B635-713B92F0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6A2-4148-4D2A-AA8C-8E1B6022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AA8-59AC-4526-BEEE-D7D35F48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05F-1523-4F0A-81EC-B0AEFC59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3AA-B061-4F82-AB70-9E26C5CB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01E-16DE-4296-A841-739EF578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9A7-9B6D-49C2-9DB5-7B0787E7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2C2-9626-4A2C-9F19-8D2DE7C4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7EF3-E6EC-4097-8D2E-04E275F7A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ebpage"/>
          <p:cNvSpPr/>
          <p:nvPr/>
        </p:nvSpPr>
        <p:spPr>
          <a:xfrm>
            <a:off x="2987640" y="3716280"/>
            <a:ext cx="3097080" cy="2808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27280" y="3213000"/>
            <a:ext cx="2952720" cy="1081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561200">
            <a:off x="324000" y="1412640"/>
            <a:ext cx="2952720" cy="1728720"/>
          </a:xfrm>
          <a:prstGeom prst="rightArrow">
            <a:avLst>
              <a:gd name="adj1" fmla="val 50000"/>
              <a:gd name="adj2" fmla="val 427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443200">
            <a:off x="0" y="4149720"/>
            <a:ext cx="3025800" cy="1440000"/>
          </a:xfrm>
          <a:prstGeom prst="rightArrow">
            <a:avLst>
              <a:gd name="adj1" fmla="val 50000"/>
              <a:gd name="adj2" fmla="val 525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788000" y="1484280"/>
            <a:ext cx="1081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422100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4221000"/>
            <a:ext cx="7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1916280"/>
            <a:ext cx="1873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5734080"/>
            <a:ext cx="201636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5300640"/>
            <a:ext cx="144144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i di 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35640" y="476280"/>
            <a:ext cx="2087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circ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80000" y="270792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3573360"/>
            <a:ext cx="2138400" cy="115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zione e cit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278136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07:34Z</dcterms:created>
  <dc:creator>studente</dc:creator>
  <dc:description/>
  <dc:language>en-US</dc:language>
  <cp:lastModifiedBy>studente</cp:lastModifiedBy>
  <dcterms:modified xsi:type="dcterms:W3CDTF">2017-01-09T08:43:18Z</dcterms:modified>
  <cp:revision>6</cp:revision>
  <dc:subject/>
  <dc:title>Diapositiva 1</dc:title>
</cp:coreProperties>
</file>